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5C35-8411-4356-8ECC-78E1179F5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27F3-E52D-4537-A832-6285C038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A017-1C18-4950-B5A3-F5CEA6E78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2FDB-978A-4950-9DAE-A227C68C2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DA91-0EDF-414B-BF8F-A654160A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0366-CE6C-484A-8A13-31591DB9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4F96-9F2A-4F7A-BB9A-B19C834B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DDA6-BDBE-4A6F-86DA-327CFC35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A735-2D1A-4B3B-8E9F-CB462B78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F53B-6E82-4632-8639-82E16FAC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9C56-4F01-4725-8FDA-0262DE03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E0B8-110E-4D55-8AC1-88D09DE3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AFFC-9730-4949-999A-D2A8CCDA589D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33 Prebuď hriešnych, čo bez Krist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buď hriešnych,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bez Krist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šťastie márne hľadaj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na šírej ceste svet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asenia cieľ strácaj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obuď unavených, slabýc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ých, čo tiesni smrti ti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by sa im zaskvel Kristu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 noci im svitol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buď z ospalosti všetkýc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rých mámi sveta kl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by z bahna túžob hriešny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preli zrak na kríž ta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de aj za nich Kristus trpe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rašných múk, keď kalich pi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by nikto nezahynu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le s ním raz večne ž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buď spiacich, sebaistýc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rým zdanie bráni zrie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len s Kristom prišla milo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bez neho spásy ni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olaj, že sa blíži rán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oc sa skoro pomi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 dar viery vďačne prij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n naveky nezhynie.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5:54:54Z</dcterms:modified>
  <cp:revision>38</cp:revision>
  <dc:subject/>
  <dc:title>Je veľký náš Pán, on slávy je Kráľ Nech do všetkých strán  spev vrúcnych znie chvál.</dc:title>
</cp:coreProperties>
</file>